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23.wmf" ContentType="image/x-wmf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42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AAF-C28C-43A4-9708-F5FD13B2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F0A-3CB4-4412-A2FC-55715B99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71C-5045-4CFD-98FC-B2CB0FE1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35D-3DCD-44F3-A453-F5250C3B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74A-21CB-4A39-8AE2-CEECB72E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3E87-9611-44F2-9BED-5C95A9C8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1A7C-2A04-4DC6-A785-00D85D9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47A3-0793-4628-8F0E-7A4235A6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7CF7-9A78-4E44-B39E-97FE9218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A723-DDFA-473A-9FB2-B420C29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6D85-41F2-4A53-9EC5-5E215B7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E56-9149-44A7-B794-B4382746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152-5E20-45C3-941B-BA5C657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69F4-F86F-46D2-AF05-F17C82B9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1D7C-C084-4357-8CCC-CB6339C4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16F3-CF6F-4048-BBB2-3E5A0AE3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1289-C512-4745-AF79-1E6168DE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77A9-2CAD-4323-BA15-4A36B1BB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01C7-DC50-4DD2-A4ED-F48CE98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382A-F3A8-43DE-8F0D-1CC46D9B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57EC-607F-4062-A4BC-B8F1BAB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9D7C-A268-467D-9108-D2F2B5AC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C50-0352-4B94-99B3-253DFB1D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ADDAF-5A13-4CF8-BF35-39EC8D8C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1E9F-AE09-4136-BD0F-9BF0DC3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B8D2-E302-46E9-A0F5-1C54A31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DD3E-FCFD-4158-B59B-69146C0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105A-C6B8-4D20-BF63-8C8E313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A6EC-FFD4-4564-A5FD-0118183E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6757-D185-4BB7-B967-3DE63733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4C4B-2372-484A-A335-674688CB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3BE2-DCBE-4BA9-AD60-7A0B85AE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74B6-C82E-406C-AADE-391125B2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6C1-F1A1-47AD-B688-36FA7D11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7900-5913-4904-B2BA-F5977B82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A8A5-E447-4D80-9D42-F7FB9F86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25A1-9E79-4D6D-A18C-49648F7C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8DCE-D168-4B8A-8CFA-55F5EF9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6A6D-11D4-44B1-8D41-2283586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70F03-0522-4A5C-8DA9-F325DAB8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F851-A97A-4D11-935A-9B9895D3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D3AF-299C-4739-80C4-47AF9A95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15BB-1429-453D-A199-94E824AB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3A41-66F5-4BD5-91FC-9E00669C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CAA-0DDA-4EBB-9DDD-F53D817B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719E-1B4D-47A0-B80B-53FCC7C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9B54-4FCE-4A38-B2F3-5B3B0FB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A5B9-1CE6-466D-9610-F276DCCF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3405-BD2B-40B2-AE25-C11A75CA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A962-718C-4C89-AB7C-804B0C22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E5514-BDDE-463F-9806-07BFEAD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C2307-A4D3-472A-B45F-45D72E4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9E18D-48C1-4D81-BD03-636F90E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3AFE-7931-4718-A8C9-326AC52B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9976F-B051-452A-8F9A-A03FF03D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571-C3FD-414C-89BC-CEB74214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D2F9-CE1F-4E12-8D32-32115678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332-213F-4259-AA6A-FF91136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8D3-39F5-4C3A-841D-587B868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4E1-6D96-413E-A300-D6E60AE2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A1D-1EDF-4DB1-A684-3591C158BE59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18EA-1C76-4FA1-96FA-4256959F5AEB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d3641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9C57-F164-44EF-9A08-D9FB17EA4100}" type="slidenum">
              <a:rPr b="0" lang="es-MX" sz="1200" spc="-1" strike="noStrike">
                <a:solidFill>
                  <a:srgbClr val="1d3641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BE20-2113-40A4-B21F-FDABA33BD766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1609-445F-46E8-BD9B-2A66A64B5AF4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ch@rmin\AppData\Local\Microsoft\Windows\Temporary Internet Files\Content.IE5\A2RJIVVW\MP900433365[1].jpg"/>
          <p:cNvPicPr/>
          <p:nvPr/>
        </p:nvPicPr>
        <p:blipFill>
          <a:blip r:embed="rId1"/>
          <a:stretch/>
        </p:blipFill>
        <p:spPr>
          <a:xfrm>
            <a:off x="1089000" y="366840"/>
            <a:ext cx="6610320" cy="4076640"/>
          </a:xfrm>
          <a:prstGeom prst="rect">
            <a:avLst/>
          </a:prstGeom>
          <a:ln w="0">
            <a:noFill/>
          </a:ln>
        </p:spPr>
      </p:pic>
      <p:pic>
        <p:nvPicPr>
          <p:cNvPr id="391" name="3 Título" descr=""/>
          <p:cNvPicPr/>
          <p:nvPr/>
        </p:nvPicPr>
        <p:blipFill>
          <a:blip r:embed="rId2"/>
          <a:stretch/>
        </p:blipFill>
        <p:spPr>
          <a:xfrm>
            <a:off x="1116000" y="-128520"/>
            <a:ext cx="6997680" cy="2006640"/>
          </a:xfrm>
          <a:prstGeom prst="rect">
            <a:avLst/>
          </a:prstGeom>
          <a:ln w="0">
            <a:noFill/>
          </a:ln>
        </p:spPr>
      </p:pic>
      <p:sp>
        <p:nvSpPr>
          <p:cNvPr id="392" name="5 CuadroTexto"/>
          <p:cNvSpPr/>
          <p:nvPr/>
        </p:nvSpPr>
        <p:spPr>
          <a:xfrm>
            <a:off x="1079640" y="44686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i="1" lang="es-MX" sz="2800" spc="-1" strike="noStrike">
                <a:solidFill>
                  <a:srgbClr val="ffffff"/>
                </a:solidFill>
                <a:latin typeface="Tw Cen MT"/>
              </a:rPr>
              <a:t>LA ÚNICA DIFERENCIA ENTRE UN BUEN DÍA Y UN MAL DÍA, ES LA ACTITUD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1 CuadroTexto"/>
          <p:cNvSpPr/>
          <p:nvPr/>
        </p:nvSpPr>
        <p:spPr>
          <a:xfrm>
            <a:off x="971640" y="5397480"/>
            <a:ext cx="70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w Cen MT"/>
              </a:rPr>
              <a:t>Zona 072                   Asesores académicos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reli Jaziel Corona Nie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ra. Ana Patricia Pérez Obreg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w Cen MT"/>
              </a:rPr>
              <a:t>Prof. Humberto Cardiel Juárez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48052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916000" y="1197000"/>
            <a:ext cx="58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ocer a través de una disciplina determinada, los contenidos que hay que enseñar su traducción de los objetivo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representaciones para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errores y obstáculos en el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struir y planificar dispositivos y secuencias did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 a los alumnos en las actividades de investigación, en proyectos de conocimient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2" descr="C:\Users\ch@rmin\AppData\Local\Microsoft\Windows\Temporary Internet Files\Content.IE5\P85A7GK5\MC900088884[1].wmf"/>
          <p:cNvPicPr/>
          <p:nvPr/>
        </p:nvPicPr>
        <p:blipFill>
          <a:blip r:embed="rId2"/>
          <a:stretch/>
        </p:blipFill>
        <p:spPr>
          <a:xfrm>
            <a:off x="412920" y="1484280"/>
            <a:ext cx="2282760" cy="1944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603360" y="3645000"/>
            <a:ext cx="2047680" cy="2238120"/>
          </a:xfrm>
          <a:prstGeom prst="rect">
            <a:avLst/>
          </a:prstGeom>
          <a:ln w="0">
            <a:noFill/>
          </a:ln>
        </p:spPr>
      </p:pic>
      <p:sp>
        <p:nvSpPr>
          <p:cNvPr id="421" name="3 Flecha curvada hacia la izquierda"/>
          <p:cNvSpPr/>
          <p:nvPr/>
        </p:nvSpPr>
        <p:spPr>
          <a:xfrm>
            <a:off x="7956720" y="6021360"/>
            <a:ext cx="576000" cy="432000"/>
          </a:xfrm>
          <a:custGeom>
            <a:avLst/>
            <a:gdLst>
              <a:gd name="textAreaLeft" fmla="*/ 77040 w 576000"/>
              <a:gd name="textAreaRight" fmla="*/ 498960 w 576000"/>
              <a:gd name="textAreaTop" fmla="*/ 67320 h 432000"/>
              <a:gd name="textAreaBottom" fmla="*/ 3106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6487"/>
                <a:lnTo>
                  <a:pt x="4046" y="21481"/>
                </a:lnTo>
                <a:lnTo>
                  <a:pt x="0" y="16200"/>
                </a:lnTo>
                <a:lnTo>
                  <a:pt x="4046" y="10681"/>
                </a:lnTo>
                <a:lnTo>
                  <a:pt x="4046" y="13381"/>
                </a:lnTo>
                <a:arcTo wR="21600" hR="6750" stAng="3516487" swAng="-305050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6840" y="1196640"/>
            <a:ext cx="526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cebir y hacer frente a situaciones problemáticas ajustadas al nivel y a las posibilidades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quirir una visión longitudinal de los problemas de la enseñanz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vínculos con la teorías que sostienen las actividade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bservar y evaluar a los alumnos en situaciones de aprendizaje según el enfoque de cada asignatu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controles periódicos de competencias y tomar decisiones de progresión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3" name="4 Rectángulo"/>
          <p:cNvSpPr/>
          <p:nvPr/>
        </p:nvSpPr>
        <p:spPr>
          <a:xfrm>
            <a:off x="1547640" y="439560"/>
            <a:ext cx="640908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2. Administrar la progresión de aprendizaje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078360" cy="3148200"/>
          </a:xfrm>
          <a:prstGeom prst="rect">
            <a:avLst/>
          </a:prstGeom>
          <a:ln w="0">
            <a:noFill/>
          </a:ln>
        </p:spPr>
      </p:pic>
      <p:sp>
        <p:nvSpPr>
          <p:cNvPr id="425" name="1 Flecha curvada hacia la izquierda"/>
          <p:cNvSpPr/>
          <p:nvPr/>
        </p:nvSpPr>
        <p:spPr>
          <a:xfrm>
            <a:off x="7956720" y="5950080"/>
            <a:ext cx="647640" cy="574560"/>
          </a:xfrm>
          <a:custGeom>
            <a:avLst/>
            <a:gdLst>
              <a:gd name="textAreaLeft" fmla="*/ 86760 w 647640"/>
              <a:gd name="textAreaRight" fmla="*/ 560880 w 647640"/>
              <a:gd name="textAreaTop" fmla="*/ 89640 h 574560"/>
              <a:gd name="textAreaBottom" fmla="*/ 412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6927"/>
                <a:lnTo>
                  <a:pt x="4791" y="21432"/>
                </a:lnTo>
                <a:lnTo>
                  <a:pt x="0" y="16200"/>
                </a:lnTo>
                <a:lnTo>
                  <a:pt x="4791" y="10632"/>
                </a:lnTo>
                <a:lnTo>
                  <a:pt x="4791" y="13332"/>
                </a:lnTo>
                <a:arcTo wR="21600" hR="6750" stAng="3236927" swAng="-277094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la heterogeneidad en el mismo grup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mpartimentar: extender la gestión de clase a un espacio más ampli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acticar un apoyo integrado: trabajar con alumnos con grandes dificultad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la cooperación entre alumnos y ciertas formas simples de enseñanza mutu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7" name="3 Rectángulo"/>
          <p:cNvSpPr/>
          <p:nvPr/>
        </p:nvSpPr>
        <p:spPr>
          <a:xfrm>
            <a:off x="324000" y="487440"/>
            <a:ext cx="856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3. Concebir y hacer evolucionar los dispositivos de diferenciac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1420920" y="4352760"/>
            <a:ext cx="2908080" cy="2178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076720" y="4352760"/>
            <a:ext cx="2735280" cy="2028960"/>
          </a:xfrm>
          <a:prstGeom prst="rect">
            <a:avLst/>
          </a:prstGeom>
          <a:ln w="0">
            <a:noFill/>
          </a:ln>
        </p:spPr>
      </p:pic>
      <p:sp>
        <p:nvSpPr>
          <p:cNvPr id="430" name="4 Flecha izquierda"/>
          <p:cNvSpPr/>
          <p:nvPr/>
        </p:nvSpPr>
        <p:spPr>
          <a:xfrm>
            <a:off x="8070840" y="6093000"/>
            <a:ext cx="576360" cy="288720"/>
          </a:xfrm>
          <a:prstGeom prst="leftArrow">
            <a:avLst>
              <a:gd name="adj1" fmla="val 50000"/>
              <a:gd name="adj2" fmla="val 50045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3141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mentar el deseo de aprender, explicitar la relación con el conocimiento, el sentido del trabajo escolar y desarrollar la capacidad de auto-evaluación en el niñ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nstruir y hacer funcionar un consejo de alumnos y negociar con ellos varios tipos de reglas y acuerd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frecer actividades de formación opcionales, es decir, “ A la Carta”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avorecer la definición de un proyecto personal del alum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2" name="3 Rectángulo"/>
          <p:cNvSpPr/>
          <p:nvPr/>
        </p:nvSpPr>
        <p:spPr>
          <a:xfrm>
            <a:off x="324000" y="353880"/>
            <a:ext cx="842472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4. Envolver a los alumnos en sus aprendizajes y en su trabajo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105000" y="981000"/>
            <a:ext cx="2762280" cy="2114640"/>
          </a:xfrm>
          <a:prstGeom prst="rect">
            <a:avLst/>
          </a:prstGeom>
          <a:ln w="0">
            <a:noFill/>
          </a:ln>
        </p:spPr>
      </p:pic>
      <p:sp>
        <p:nvSpPr>
          <p:cNvPr id="434" name="4 Flecha curvada hacia la izquierda"/>
          <p:cNvSpPr/>
          <p:nvPr/>
        </p:nvSpPr>
        <p:spPr>
          <a:xfrm>
            <a:off x="8340840" y="5805360"/>
            <a:ext cx="407880" cy="432000"/>
          </a:xfrm>
          <a:custGeom>
            <a:avLst/>
            <a:gdLst>
              <a:gd name="textAreaLeft" fmla="*/ 54360 w 407880"/>
              <a:gd name="textAreaRight" fmla="*/ 353520 w 407880"/>
              <a:gd name="textAreaTop" fmla="*/ 69480 h 432000"/>
              <a:gd name="textAreaBottom" fmla="*/ 311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3080924"/>
                <a:lnTo>
                  <a:pt x="5400" y="21379"/>
                </a:lnTo>
                <a:lnTo>
                  <a:pt x="0" y="16498"/>
                </a:lnTo>
                <a:lnTo>
                  <a:pt x="5400" y="11175"/>
                </a:lnTo>
                <a:lnTo>
                  <a:pt x="5400" y="13726"/>
                </a:lnTo>
                <a:arcTo wR="21600" hR="6974" stAng="3080924" swAng="-2647002"/>
                <a:lnTo>
                  <a:pt x="20103" y="9525"/>
                </a:lnTo>
                <a:arcTo wR="21600" hR="6974" stAng="-433922" swAng="-4966078"/>
                <a:close/>
              </a:path>
              <a:path fill="darkenLess" w="21600" h="21600">
                <a:moveTo>
                  <a:pt x="0" y="0"/>
                </a:moveTo>
                <a:arcTo wR="21600" hR="6974" stAng="-5400000" swAng="5400000"/>
                <a:lnTo>
                  <a:pt x="21600" y="12076"/>
                </a:lnTo>
                <a:arcTo wR="21600" hR="6974" stAng="0" swAng="-433922"/>
                <a:lnTo>
                  <a:pt x="20103" y="9525"/>
                </a:lnTo>
                <a:arcTo wR="21600" hR="6974" stAng="-433922" swAng="-4966078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132000" y="1600200"/>
            <a:ext cx="5554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un proyecto de equipo de representaciones comu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ulsar un grupo de trabajo, dirigir reunion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rmar y renovar un equipo pedagógic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frontar y analizar conjuntamente situaciones complejas, prácticas y problemas profesion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crisis o conflictos entre person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6" name="3 Rectángulo"/>
          <p:cNvSpPr/>
          <p:nvPr/>
        </p:nvSpPr>
        <p:spPr>
          <a:xfrm>
            <a:off x="3635280" y="523800"/>
            <a:ext cx="4969080" cy="58140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w Cen MT"/>
              </a:rPr>
              <a:t>5. Trabajar en equipo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39640" y="10825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439" name="4 Flecha curvada hacia la izquierda"/>
          <p:cNvSpPr/>
          <p:nvPr/>
        </p:nvSpPr>
        <p:spPr>
          <a:xfrm>
            <a:off x="7885080" y="5877000"/>
            <a:ext cx="719280" cy="531720"/>
          </a:xfrm>
          <a:custGeom>
            <a:avLst/>
            <a:gdLst>
              <a:gd name="textAreaLeft" fmla="*/ 96120 w 719280"/>
              <a:gd name="textAreaRight" fmla="*/ 623160 w 719280"/>
              <a:gd name="textAreaTop" fmla="*/ 82800 h 531720"/>
              <a:gd name="textAreaBottom" fmla="*/ 38232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37300"/>
                <a:lnTo>
                  <a:pt x="3993" y="21484"/>
                </a:lnTo>
                <a:lnTo>
                  <a:pt x="0" y="16200"/>
                </a:lnTo>
                <a:lnTo>
                  <a:pt x="3993" y="10684"/>
                </a:lnTo>
                <a:lnTo>
                  <a:pt x="3993" y="13384"/>
                </a:lnTo>
                <a:arcTo wR="21600" hR="6750" stAng="3537300" swAng="-3071314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341000"/>
            <a:ext cx="505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y negociar un proyecto institucion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ministrar los recursos de la escuel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ordinar, fomentar una escuela con todos los componentes, (extraescolares, del barrio, asociaciones de padres de familia, profesores de lengua y cultura de orige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rganizar y hacer evolucionar, en la misma escuela, la participación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1" name="3 Rectángulo"/>
          <p:cNvSpPr/>
          <p:nvPr/>
        </p:nvSpPr>
        <p:spPr>
          <a:xfrm>
            <a:off x="755640" y="476280"/>
            <a:ext cx="756144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6. Participar en la administración de la escuel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5578560" y="1341360"/>
            <a:ext cx="3074760" cy="2190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5578560" y="3855960"/>
            <a:ext cx="3082680" cy="2309760"/>
          </a:xfrm>
          <a:prstGeom prst="rect">
            <a:avLst/>
          </a:prstGeom>
          <a:ln w="0">
            <a:noFill/>
          </a:ln>
        </p:spPr>
      </p:pic>
      <p:sp>
        <p:nvSpPr>
          <p:cNvPr id="444" name="4 Flecha izquierda"/>
          <p:cNvSpPr/>
          <p:nvPr/>
        </p:nvSpPr>
        <p:spPr>
          <a:xfrm>
            <a:off x="4284720" y="6021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84200" y="783720"/>
            <a:ext cx="53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Favorecer reuniones informativas y de debate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Dirigir la reunione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Implicar a los padres en la valoración de la construcción de los conocimiento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6" name="3 Rectángulo"/>
          <p:cNvSpPr/>
          <p:nvPr/>
        </p:nvSpPr>
        <p:spPr>
          <a:xfrm>
            <a:off x="484200" y="260280"/>
            <a:ext cx="5505480" cy="94716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7. Informar y envolver a los padr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4 Rectángulo"/>
          <p:cNvSpPr/>
          <p:nvPr/>
        </p:nvSpPr>
        <p:spPr>
          <a:xfrm>
            <a:off x="3363840" y="2709720"/>
            <a:ext cx="524988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8. Utilizar nuevas tecnología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2 Marcador de contenido"/>
          <p:cNvSpPr/>
          <p:nvPr/>
        </p:nvSpPr>
        <p:spPr>
          <a:xfrm>
            <a:off x="3111480" y="3232080"/>
            <a:ext cx="5853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“ </a:t>
            </a: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El deber de los profesores es integrarse en el universo de los alumnos”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programas de edición de los document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Explorar los potenciales didácticos de programas en relación con los objetivos de domini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Comunicarse a distancia a través de la telemática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instrumentos de multimedia en la enseñanza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395280" y="3578400"/>
            <a:ext cx="2681280" cy="2601720"/>
          </a:xfrm>
          <a:prstGeom prst="rect">
            <a:avLst/>
          </a:prstGeom>
          <a:ln w="0">
            <a:noFill/>
          </a:ln>
        </p:spPr>
      </p:pic>
      <p:sp>
        <p:nvSpPr>
          <p:cNvPr id="451" name="6 Flecha curvada hacia la izquierda"/>
          <p:cNvSpPr/>
          <p:nvPr/>
        </p:nvSpPr>
        <p:spPr>
          <a:xfrm>
            <a:off x="8028000" y="6180120"/>
            <a:ext cx="585720" cy="344520"/>
          </a:xfrm>
          <a:custGeom>
            <a:avLst/>
            <a:gdLst>
              <a:gd name="textAreaLeft" fmla="*/ 78480 w 585720"/>
              <a:gd name="textAreaRight" fmla="*/ 507240 w 585720"/>
              <a:gd name="textAreaTop" fmla="*/ 53640 h 344520"/>
              <a:gd name="textAreaBottom" fmla="*/ 2476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873605"/>
                <a:lnTo>
                  <a:pt x="3176" y="21527"/>
                </a:lnTo>
                <a:lnTo>
                  <a:pt x="0" y="16200"/>
                </a:lnTo>
                <a:lnTo>
                  <a:pt x="3176" y="10727"/>
                </a:lnTo>
                <a:lnTo>
                  <a:pt x="3176" y="13427"/>
                </a:lnTo>
                <a:arcTo wR="21600" hR="6750" stAng="3873605" swAng="-340761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531360" y="980640"/>
            <a:ext cx="81867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evenir la violencia en la escuela o en la ciudad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Luchar contra los prejuicios y las discriminaciones sexuales, étnicas y soci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articipar en la creación de reglas de la vida común referentes a la disciplina en la escuela, las sanciones, la apreciación dela conduct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nalizar la relación pedagógica, la autoridad y la comunicación en la cla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el sentido de la responsabilidad, la solidaridad y el sentimiento de justici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3" name="3 Rectángulo"/>
          <p:cNvSpPr/>
          <p:nvPr/>
        </p:nvSpPr>
        <p:spPr>
          <a:xfrm>
            <a:off x="539640" y="349200"/>
            <a:ext cx="820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9. Enfrentar los deberes y los dilemas éticos de la profes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547640" y="5022720"/>
            <a:ext cx="2232360" cy="162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5292720" y="5022720"/>
            <a:ext cx="1808280" cy="1611360"/>
          </a:xfrm>
          <a:prstGeom prst="rect">
            <a:avLst/>
          </a:prstGeom>
          <a:ln w="0">
            <a:noFill/>
          </a:ln>
        </p:spPr>
      </p:pic>
      <p:sp>
        <p:nvSpPr>
          <p:cNvPr id="456" name="4 Flecha curvada hacia la izquierda"/>
          <p:cNvSpPr/>
          <p:nvPr/>
        </p:nvSpPr>
        <p:spPr>
          <a:xfrm>
            <a:off x="7956720" y="59500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4198"/>
                <a:lnTo>
                  <a:pt x="4633" y="21443"/>
                </a:lnTo>
                <a:lnTo>
                  <a:pt x="0" y="16200"/>
                </a:lnTo>
                <a:lnTo>
                  <a:pt x="4633" y="10643"/>
                </a:lnTo>
                <a:lnTo>
                  <a:pt x="4633" y="13343"/>
                </a:lnTo>
                <a:arcTo wR="21600" hR="6750" stAng="3294198" swAng="-28282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26960" y="2997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Saber explicar sus pr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un control de competencias y un programa personal de formación continú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Negociar un proyecto de formación común con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se en la tareas a nivel general de la enseñanza o sistema educativ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ceptar y participar en la formación de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8" name="3 Rectángulo"/>
          <p:cNvSpPr/>
          <p:nvPr/>
        </p:nvSpPr>
        <p:spPr>
          <a:xfrm>
            <a:off x="187560" y="549360"/>
            <a:ext cx="8532360" cy="5205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10. Administrar sus propia formación continúa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2 Marcador de contenido" descr=""/>
          <p:cNvPicPr/>
          <p:nvPr/>
        </p:nvPicPr>
        <p:blipFill>
          <a:blip r:embed="rId1"/>
          <a:stretch/>
        </p:blipFill>
        <p:spPr>
          <a:xfrm>
            <a:off x="-165240" y="396720"/>
            <a:ext cx="9176040" cy="6126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3565440" y="549360"/>
            <a:ext cx="5413320" cy="25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4076280"/>
            <a:ext cx="6778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dfe6d0"/>
                </a:solidFill>
                <a:latin typeface="Tw Cen MT"/>
              </a:rPr>
              <a:t>        </a:t>
            </a:r>
            <a:endParaRPr b="0" lang="en-US" sz="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Si quieres cambiar al mundo, cámbiate a ti mismo” (Mahatma Gandhi)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6" name="Picture 2" descr="C:\Users\ch@rmin\AppData\Local\Microsoft\Windows\Temporary Internet Files\Content.IE5\A2RJIVVW\MC900435410[1].wmf"/>
          <p:cNvPicPr/>
          <p:nvPr/>
        </p:nvPicPr>
        <p:blipFill>
          <a:blip r:embed="rId2"/>
          <a:stretch/>
        </p:blipFill>
        <p:spPr>
          <a:xfrm>
            <a:off x="6980400" y="3357720"/>
            <a:ext cx="1488960" cy="185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ch@rmin\AppData\Local\Microsoft\Windows\Temporary Internet Files\Content.IE5\6KDBY9K4\MP900409048[1].jpg"/>
          <p:cNvPicPr/>
          <p:nvPr/>
        </p:nvPicPr>
        <p:blipFill>
          <a:blip r:embed="rId3"/>
          <a:stretch/>
        </p:blipFill>
        <p:spPr>
          <a:xfrm>
            <a:off x="1258920" y="1989000"/>
            <a:ext cx="2952720" cy="196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63" name="3 Diagrama" descr=""/>
          <p:cNvPicPr/>
          <p:nvPr/>
        </p:nvPicPr>
        <p:blipFill>
          <a:blip r:embed="rId1"/>
          <a:stretch/>
        </p:blipFill>
        <p:spPr>
          <a:xfrm>
            <a:off x="755640" y="469800"/>
            <a:ext cx="784548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2 Marcador de contenido" descr=""/>
          <p:cNvPicPr/>
          <p:nvPr/>
        </p:nvPicPr>
        <p:blipFill>
          <a:blip r:embed="rId1"/>
          <a:stretch/>
        </p:blipFill>
        <p:spPr>
          <a:xfrm>
            <a:off x="96840" y="195120"/>
            <a:ext cx="86821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6. Propicia un ambiente escolar para un aprendizaje y un desarrollo sano e integral de los estudiant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7. Se auto determina y cuida de sí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8. Se expresa y se comun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9. Piensa crítica y con reflexió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0. Aprende de forma autónom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1. Trabaja de forma colaborativ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2. Participa con responsabilidad soci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just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13. Organiza su formación continua en su trayectoria profesion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258920" y="322200"/>
            <a:ext cx="6626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1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Un alumno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competente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no es aquel que sabe más en teoría, sino aquel que pone el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práctica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lo que ha aprendido adelantándose siempre a lo que es obvio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C:\Users\ch@rmin\AppData\Local\Microsoft\Windows\Temporary Internet Files\Content.IE5\A2RJIVVW\MC900343353[1].wmf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Título" descr=""/>
          <p:cNvPicPr/>
          <p:nvPr/>
        </p:nvPicPr>
        <p:blipFill>
          <a:blip r:embed="rId1"/>
          <a:stretch/>
        </p:blipFill>
        <p:spPr>
          <a:xfrm>
            <a:off x="73080" y="219240"/>
            <a:ext cx="9028080" cy="1712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Users\ch@rmin\AppData\Local\Microsoft\Windows\Temporary Internet Files\Content.IE5\A2RJIVVW\MP900409335[1]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8980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El cambio en los paradigmas educativos actuales (RIEB), genera un cambio en los docentes”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1979640" y="2557440"/>
            <a:ext cx="52624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06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 docentes don un cúmulo de habilidades, conocimientos y procesos orientados a lograr un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desempeño óptimo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adecuado en el área educativa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s docentes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son varias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cada una exige un dominio y desarrollo alto para ser capaz de enfrentar las situacion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670280" y="3645000"/>
            <a:ext cx="4294440" cy="257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184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3 Rectángulo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491680" cy="3133440"/>
          </a:xfrm>
          <a:prstGeom prst="rect">
            <a:avLst/>
          </a:prstGeom>
          <a:ln w="0">
            <a:noFill/>
          </a:ln>
        </p:spPr>
      </p:pic>
      <p:pic>
        <p:nvPicPr>
          <p:cNvPr id="413" name="4 Rectángulo" descr=""/>
          <p:cNvPicPr/>
          <p:nvPr/>
        </p:nvPicPr>
        <p:blipFill>
          <a:blip r:embed="rId3"/>
          <a:stretch/>
        </p:blipFill>
        <p:spPr>
          <a:xfrm>
            <a:off x="3633840" y="3121200"/>
            <a:ext cx="52610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ch@rmin\AppData\Local\Microsoft\Windows\Temporary Internet Files\Content.IE5\A2RJIVVW\MC900434901[1].png"/>
          <p:cNvPicPr/>
          <p:nvPr/>
        </p:nvPicPr>
        <p:blipFill>
          <a:blip r:embed="rId2"/>
          <a:stretch/>
        </p:blipFill>
        <p:spPr>
          <a:xfrm>
            <a:off x="6732720" y="3141720"/>
            <a:ext cx="2286000" cy="2789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3" action="ppaction://hlinksldjump"/>
              </a:rPr>
              <a:t>Organizar y dirigir situaciones de aprendizaje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4" action="ppaction://hlinksldjump"/>
              </a:rPr>
              <a:t>Administrar la progresión de aprendizaj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5" action="ppaction://hlinksldjump"/>
              </a:rPr>
              <a:t>Concebir y hacer evolucionar los dispositivos de diferenciac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6" action="ppaction://hlinksldjump"/>
              </a:rPr>
              <a:t>Envolver a los alumnos en sus aprendizajes y en su trabaj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7" action="ppaction://hlinksldjump"/>
              </a:rPr>
              <a:t>Trabajar en equip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8" action="ppaction://hlinksldjump"/>
              </a:rPr>
              <a:t>Participar en la administración de la escuela</a:t>
            </a: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Informar y envolver a los padr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Utilizar nuevas tecnología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Enfrentar los deberes y los dilemas éticos de la profes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Administrar sus propia formación continúa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28:58Z</dcterms:created>
  <dc:creator>ch@rmin</dc:creator>
  <dc:description/>
  <dc:language>en-US</dc:language>
  <cp:lastModifiedBy>ch@rmin</cp:lastModifiedBy>
  <dcterms:modified xsi:type="dcterms:W3CDTF">2012-02-20T15:44:10Z</dcterms:modified>
  <cp:revision>34</cp:revision>
  <dc:subject/>
  <dc:title>¡BIENVENIDOS!</dc:title>
</cp:coreProperties>
</file>